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.jpeg" ContentType="image/jpeg"/>
  <Override PartName="/ppt/media/image3.wmf" ContentType="image/x-wmf"/>
  <Override PartName="/ppt/media/image4.png" ContentType="image/png"/>
  <Override PartName="/ppt/media/image10.png" ContentType="image/png"/>
  <Override PartName="/ppt/media/image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1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13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73152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7480" y="742680"/>
            <a:ext cx="464364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63137-9BB3-4478-AE2C-63A1F05915F9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8F14D-B207-4801-94F2-B51FAE8DF81D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C18E-E849-4CDA-A5FD-6E314DD59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C469-1448-454D-8D59-322E5FD9A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3540-3087-45C6-B233-F703619F9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4169-11F6-4BE2-8274-F70C1243A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98B52-734D-4714-88EF-C870828BA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2BB83-886F-4A9C-87BE-4198B43BC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2B610-93BC-456C-B288-793E277F4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8281D-C367-4FBD-B7C4-EDCA893A5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25B67-9A35-42AE-BCDB-C14400F15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4FDAF-35F2-45BA-BE31-EB545639C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26D64-6A66-4936-82D5-B5D376C1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8A68-4C61-4200-93CF-B320C28F1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4BEDA-B320-494E-8292-63087446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82386-3F31-46A3-9924-55F935BA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A8C71-6184-4185-885D-5948C827F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CD00D-CAA4-4873-83F4-F5B7B76DB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8821A-0EAF-4D7E-B19C-A0CFF371D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EF46-101A-41A9-888D-11A9D5D21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A62E-015F-448D-98D0-AC322A3FC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7E96-CE54-49C9-B1F6-D57E94321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C570-0F34-42FA-9593-5CDC6E649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65A4-3280-476F-8AFF-497FB8FA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D9C2-5D64-4AEC-BEFF-29344872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A50D-D263-40C6-BF88-55996781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6FFF3-08C1-4518-8C1F-E8E390B0BCD0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7035480"/>
            <a:ext cx="28958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70DC9-2E21-4FFC-99B1-60C6BC4EAFF5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5D575-38A3-4D45-A2D3-A88F0B2DB693}" type="datetime">
              <a:rPr b="0" lang="sl-SI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60720"/>
            <a:ext cx="2895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E50E0-935B-4440-A908-C9F087D73FFD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E3659-9C45-49AF-86F0-7CD465530C05}" type="datetime">
              <a:rPr b="0" lang="sl-SI" sz="1000" spc="-1" strike="noStrike">
                <a:solidFill>
                  <a:srgbClr val="002060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C47C8-E775-4149-833E-8181DB976C5A}" type="slidenum">
              <a:rPr b="0" lang="sl-SI" sz="1000" spc="-1" strike="noStrike">
                <a:solidFill>
                  <a:srgbClr val="00206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1044720" y="1136520"/>
            <a:ext cx="28796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a2"/>
                </a:solidFill>
                <a:latin typeface="Century Gothic"/>
              </a:rPr>
              <a:t>MINISTRSTVO ZA 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</a:rPr>
              <a:t>Beethovnova 11, 1000 Ljublj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</a:rPr>
              <a:t>Tel.: (01) 369-65-10 Fax: (01) 369-65-3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</a:rPr>
              <a:t>SUSEU/PO - ORGAN ZA POTRJEVANJ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971640" y="2881440"/>
            <a:ext cx="7270560" cy="29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179280" y="3152880"/>
            <a:ext cx="849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Finančna realizacija izvajanja OP RR in OP ROPI za obdobje </a:t>
            </a: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2007-2013</a:t>
            </a:r>
            <a:r>
              <a:rPr b="0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9600" y="4233960"/>
            <a:ext cx="9104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86177-D68E-41B9-BA7C-4F5FAD67F4CB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1A75C-0ABF-4AF4-9751-CCCEFC0AD133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908000" y="3152880"/>
          <a:ext cx="5400720" cy="2073240"/>
        </p:xfrm>
        <a:graphic>
          <a:graphicData uri="http://schemas.openxmlformats.org/drawingml/2006/table">
            <a:tbl>
              <a:tblPr/>
              <a:tblGrid>
                <a:gridCol w="1224000"/>
                <a:gridCol w="2089440"/>
                <a:gridCol w="2087280"/>
              </a:tblGrid>
              <a:tr h="809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goji za certificir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zP v obdelavi na 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ESR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0,5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0,5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63,5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3366"/>
                          </a:solidFill>
                          <a:latin typeface="Calibri"/>
                          <a:ea typeface="Calibri"/>
                        </a:rPr>
                        <a:t>8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Rectangle 19"/>
          <p:cNvSpPr/>
          <p:nvPr/>
        </p:nvSpPr>
        <p:spPr>
          <a:xfrm>
            <a:off x="1932480" y="2149560"/>
            <a:ext cx="497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Stanje ZzP na PO - OP ROPI 2007-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0"/>
          <p:cNvSpPr/>
          <p:nvPr/>
        </p:nvSpPr>
        <p:spPr>
          <a:xfrm>
            <a:off x="1795320" y="286560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Prispevek Skupnosti (v EUR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9"/>
          <p:cNvSpPr/>
          <p:nvPr/>
        </p:nvSpPr>
        <p:spPr>
          <a:xfrm>
            <a:off x="411120" y="6321600"/>
            <a:ext cx="47214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Stanje na dan: 30. 4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7ADAC-176C-4544-838E-61670D86A6EC}" type="datetime">
              <a:rPr b="0" lang="sl-SI" sz="1000" spc="-1" strike="noStrike">
                <a:solidFill>
                  <a:srgbClr val="003366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A653-551B-4D54-95DA-510E5A496A53}" type="slidenum">
              <a:rPr b="0" lang="sl-SI" sz="10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1348560" y="1574640"/>
            <a:ext cx="60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Uresničevanje pravila n+2/3 za OP ROPI  07-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311040" y="230184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Calibri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4"/>
          <p:cNvSpPr/>
          <p:nvPr/>
        </p:nvSpPr>
        <p:spPr>
          <a:xfrm>
            <a:off x="684360" y="5972040"/>
            <a:ext cx="734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Calibri"/>
              </a:rPr>
              <a:t>Stopnja doseganja FN 2007-2013: 27% KS oz. 45% ESR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Calibri"/>
              </a:rPr>
              <a:t>V letošnjem letu se N+2/3 na OP ROPI KS z 293 mio € zniža za 206 mio € (čl. 94 uredbe ES 1083/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9"/>
          <p:cNvSpPr/>
          <p:nvPr/>
        </p:nvSpPr>
        <p:spPr>
          <a:xfrm>
            <a:off x="411120" y="6321600"/>
            <a:ext cx="47214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Stanje na dan: 30. 4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9" descr=""/>
          <p:cNvPicPr/>
          <p:nvPr/>
        </p:nvPicPr>
        <p:blipFill>
          <a:blip r:embed="rId1"/>
          <a:stretch/>
        </p:blipFill>
        <p:spPr>
          <a:xfrm>
            <a:off x="333360" y="2630520"/>
            <a:ext cx="777708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7669A-9444-4697-AFE8-FD45498FCE9B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9A024-365B-4B6D-826A-8FE36F4A3306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1272600" y="1933560"/>
            <a:ext cx="551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Zahtevek za plačilo – napovedi za OP RO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95280" y="2936880"/>
          <a:ext cx="8209080" cy="1554120"/>
        </p:xfrm>
        <a:graphic>
          <a:graphicData uri="http://schemas.openxmlformats.org/drawingml/2006/table">
            <a:tbl>
              <a:tblPr/>
              <a:tblGrid>
                <a:gridCol w="2736720"/>
                <a:gridCol w="2735280"/>
                <a:gridCol w="27370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e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OP ROPI 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OP ROPI E</a:t>
                      </a:r>
                      <a:r>
                        <a:rPr b="0" lang="sl-SI" sz="25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SRR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66,38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5,37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51,63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,78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9"/>
          <p:cNvSpPr/>
          <p:nvPr/>
        </p:nvSpPr>
        <p:spPr>
          <a:xfrm>
            <a:off x="450720" y="4881600"/>
            <a:ext cx="1881360" cy="3070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Arial Unicode MS"/>
              </a:rPr>
              <a:t>Vir: SFC 2007 –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262080" y="5416560"/>
            <a:ext cx="5655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Realizacija napovedi 2013 na dan 30.  4.  2014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                                 </a:t>
            </a: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OP ROPI KS:                         0,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                                 </a:t>
            </a: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OP ROPI ESRR:                     0,00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20C18-5AF2-45AB-AABF-65AD352C043D}" type="datetime">
              <a:rPr b="0" lang="sl-SI" sz="1000" spc="-1" strike="noStrike">
                <a:solidFill>
                  <a:srgbClr val="003366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82A69-CF87-4AE1-A4AF-83E835CCB35B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9"/>
          <p:cNvSpPr/>
          <p:nvPr/>
        </p:nvSpPr>
        <p:spPr>
          <a:xfrm>
            <a:off x="490680" y="632160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Stanje na dan: 30. 4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0"/>
          <p:cNvSpPr/>
          <p:nvPr/>
        </p:nvSpPr>
        <p:spPr>
          <a:xfrm>
            <a:off x="767520" y="1065240"/>
            <a:ext cx="74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Letni pregled avtoriziranih/certificiranih izdatkov – OP 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3"/>
          <p:cNvSpPr/>
          <p:nvPr/>
        </p:nvSpPr>
        <p:spPr>
          <a:xfrm>
            <a:off x="490680" y="1641600"/>
            <a:ext cx="56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"/>
          <p:cNvPicPr/>
          <p:nvPr/>
        </p:nvPicPr>
        <p:blipFill>
          <a:blip r:embed="rId1"/>
          <a:stretch/>
        </p:blipFill>
        <p:spPr>
          <a:xfrm>
            <a:off x="582480" y="1919160"/>
            <a:ext cx="4535640" cy="2167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"/>
          <p:cNvPicPr/>
          <p:nvPr/>
        </p:nvPicPr>
        <p:blipFill>
          <a:blip r:embed="rId2"/>
          <a:stretch/>
        </p:blipFill>
        <p:spPr>
          <a:xfrm>
            <a:off x="4211640" y="4449600"/>
            <a:ext cx="418932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25114-F3A2-44C7-85FF-DD965E0A1980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F1083-548F-4633-BF87-D7127F957B06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835280" y="2936880"/>
          <a:ext cx="5400720" cy="1441440"/>
        </p:xfrm>
        <a:graphic>
          <a:graphicData uri="http://schemas.openxmlformats.org/drawingml/2006/table">
            <a:tbl>
              <a:tblPr/>
              <a:tblGrid>
                <a:gridCol w="1224000"/>
                <a:gridCol w="2089080"/>
                <a:gridCol w="2087640"/>
              </a:tblGrid>
              <a:tr h="809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goji za certificir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zP v obdelavi na 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4.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3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Rectangle 40"/>
          <p:cNvSpPr/>
          <p:nvPr/>
        </p:nvSpPr>
        <p:spPr>
          <a:xfrm>
            <a:off x="2133360" y="1951200"/>
            <a:ext cx="469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Stanje ZzP na PO - OP RR 2007-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7"/>
          <p:cNvSpPr/>
          <p:nvPr/>
        </p:nvSpPr>
        <p:spPr>
          <a:xfrm>
            <a:off x="1763640" y="264960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Calibri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8"/>
          <p:cNvSpPr/>
          <p:nvPr/>
        </p:nvSpPr>
        <p:spPr>
          <a:xfrm>
            <a:off x="2143800" y="4498920"/>
            <a:ext cx="505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  <a:ea typeface="Calibri"/>
              </a:rPr>
              <a:t>Število prejetih ZzP v l. 2014: 341 v vrednosti 63,5 mio EUR</a:t>
            </a:r>
            <a:r>
              <a:rPr b="0" lang="sl-SI" sz="1600" spc="-1" strike="noStrike">
                <a:solidFill>
                  <a:srgbClr val="003366"/>
                </a:solidFill>
                <a:latin typeface="Calibri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9"/>
          <p:cNvSpPr/>
          <p:nvPr/>
        </p:nvSpPr>
        <p:spPr>
          <a:xfrm>
            <a:off x="490680" y="632160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Stanje na dan: 30. 4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149AB-397E-4EE5-BDC6-7D48EE6564D8}" type="datetime">
              <a:rPr b="0" lang="sl-SI" sz="1000" spc="-1" strike="noStrike">
                <a:solidFill>
                  <a:srgbClr val="003366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9F46A-02E1-4418-B05C-D5EE1F4170A9}" type="slidenum">
              <a:rPr b="0" lang="sl-SI" sz="10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3"/>
          <p:cNvSpPr/>
          <p:nvPr/>
        </p:nvSpPr>
        <p:spPr>
          <a:xfrm>
            <a:off x="1347840" y="1574640"/>
            <a:ext cx="569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Uresničevanje pravila n+2/3 za OP RR 07-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4"/>
          <p:cNvSpPr/>
          <p:nvPr/>
        </p:nvSpPr>
        <p:spPr>
          <a:xfrm>
            <a:off x="210960" y="292104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387360" y="563256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Calibri"/>
              </a:rPr>
              <a:t>Stopnja doseganja FN 2007-2013 na dan 30. 4. 2014:  73,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9" descr=""/>
          <p:cNvPicPr/>
          <p:nvPr/>
        </p:nvPicPr>
        <p:blipFill>
          <a:blip r:embed="rId1"/>
          <a:stretch/>
        </p:blipFill>
        <p:spPr>
          <a:xfrm>
            <a:off x="250920" y="3240000"/>
            <a:ext cx="8296200" cy="227664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9"/>
          <p:cNvSpPr/>
          <p:nvPr/>
        </p:nvSpPr>
        <p:spPr>
          <a:xfrm>
            <a:off x="411120" y="6321600"/>
            <a:ext cx="47214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Stanje na dan: 30. 4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4F618-B838-432B-B541-D702F12CB61B}" type="datetime">
              <a:rPr b="0" lang="sl-SI" sz="1000" spc="-1" strike="noStrike">
                <a:solidFill>
                  <a:srgbClr val="003366"/>
                </a:solidFill>
                <a:latin typeface="Calibri"/>
                <a:ea typeface="Calibri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32A35-B38B-4FDB-AAA4-A1DB582313FD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1271520" y="1933560"/>
            <a:ext cx="524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Zahtevek za plačilo – napovedi za OP 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332000" y="2936880"/>
          <a:ext cx="6095880" cy="155412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e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Vredn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60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7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Rectangle 47"/>
          <p:cNvSpPr/>
          <p:nvPr/>
        </p:nvSpPr>
        <p:spPr>
          <a:xfrm>
            <a:off x="1307520" y="4791240"/>
            <a:ext cx="1669680" cy="3070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Calibri"/>
                <a:ea typeface="Calibri"/>
              </a:rPr>
              <a:t>Vir: SFC 2007 –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4"/>
          <p:cNvSpPr/>
          <p:nvPr/>
        </p:nvSpPr>
        <p:spPr>
          <a:xfrm>
            <a:off x="1258920" y="552924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Realizacija napovedi 2014 na dan 30. 4. 2014: 0,00% (zaustavitev plačil EK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6C527-78B9-4EB2-997D-934685088583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2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11377-7571-4556-9B9D-60034D71D619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2236320" y="2001960"/>
            <a:ext cx="427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Finančni tokovi PO - EK za OP 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1"/>
          <p:cNvGrpSpPr/>
          <p:nvPr/>
        </p:nvGrpSpPr>
        <p:grpSpPr>
          <a:xfrm>
            <a:off x="324000" y="3081240"/>
            <a:ext cx="8100720" cy="3235320"/>
            <a:chOff x="324000" y="3081240"/>
            <a:chExt cx="8100720" cy="3235320"/>
          </a:xfrm>
        </p:grpSpPr>
        <p:pic>
          <p:nvPicPr>
            <p:cNvPr id="126" name="Picture 7" descr=""/>
            <p:cNvPicPr/>
            <p:nvPr/>
          </p:nvPicPr>
          <p:blipFill>
            <a:blip r:embed="rId1"/>
            <a:stretch/>
          </p:blipFill>
          <p:spPr>
            <a:xfrm>
              <a:off x="324000" y="3713040"/>
              <a:ext cx="8100720" cy="260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8" descr=""/>
            <p:cNvPicPr/>
            <p:nvPr/>
          </p:nvPicPr>
          <p:blipFill>
            <a:blip r:embed="rId2"/>
            <a:stretch/>
          </p:blipFill>
          <p:spPr>
            <a:xfrm>
              <a:off x="340920" y="3081240"/>
              <a:ext cx="8036640" cy="650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C9DD4-22F1-4026-BEBB-18D70885B262}" type="datetime">
              <a:rPr b="0" lang="sl-SI" sz="1000" spc="-1" strike="noStrike">
                <a:solidFill>
                  <a:srgbClr val="003366"/>
                </a:solidFill>
                <a:latin typeface="Calibri"/>
                <a:ea typeface="Calibri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AE33C-312E-4D0A-8DDA-4E174B75EA4D}" type="slidenum">
              <a:rPr b="0" lang="sl-SI" sz="1000" spc="-1" strike="noStrike">
                <a:solidFill>
                  <a:srgbClr val="003366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395280" y="156996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Calibri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0"/>
          <p:cNvSpPr/>
          <p:nvPr/>
        </p:nvSpPr>
        <p:spPr>
          <a:xfrm>
            <a:off x="592200" y="1149480"/>
            <a:ext cx="772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Letni pregled avtoriziranih/certificiranih izdatkov – OP RO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9" descr=""/>
          <p:cNvPicPr/>
          <p:nvPr/>
        </p:nvPicPr>
        <p:blipFill>
          <a:blip r:embed="rId1"/>
          <a:stretch/>
        </p:blipFill>
        <p:spPr>
          <a:xfrm>
            <a:off x="468360" y="1857240"/>
            <a:ext cx="4681440" cy="2492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"/>
          <p:cNvPicPr/>
          <p:nvPr/>
        </p:nvPicPr>
        <p:blipFill>
          <a:blip r:embed="rId2"/>
          <a:stretch/>
        </p:blipFill>
        <p:spPr>
          <a:xfrm>
            <a:off x="3794040" y="4378320"/>
            <a:ext cx="4683240" cy="28638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39"/>
          <p:cNvSpPr/>
          <p:nvPr/>
        </p:nvSpPr>
        <p:spPr>
          <a:xfrm>
            <a:off x="411120" y="6321600"/>
            <a:ext cx="47214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Stanje na dan: 30. 4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AAC69-B0C0-4C56-8637-948EB8E68DD2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A3AB7-F867-4408-8D09-4E4B4D4FD7A1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1849320" y="1209600"/>
            <a:ext cx="49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Finančni tokovi PO - EK za OP ROPI 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9"/>
          <p:cNvSpPr/>
          <p:nvPr/>
        </p:nvSpPr>
        <p:spPr>
          <a:xfrm>
            <a:off x="411120" y="6321600"/>
            <a:ext cx="47214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Stanje na dan: 30. 4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"/>
          <p:cNvGrpSpPr/>
          <p:nvPr/>
        </p:nvGrpSpPr>
        <p:grpSpPr>
          <a:xfrm>
            <a:off x="411120" y="2352600"/>
            <a:ext cx="7915320" cy="3148200"/>
            <a:chOff x="411120" y="2352600"/>
            <a:chExt cx="7915320" cy="3148200"/>
          </a:xfrm>
        </p:grpSpPr>
        <p:pic>
          <p:nvPicPr>
            <p:cNvPr id="140" name="Picture 7" descr=""/>
            <p:cNvPicPr/>
            <p:nvPr/>
          </p:nvPicPr>
          <p:blipFill>
            <a:blip r:embed="rId1"/>
            <a:stretch/>
          </p:blipFill>
          <p:spPr>
            <a:xfrm>
              <a:off x="411120" y="2352600"/>
              <a:ext cx="7915320" cy="69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8" descr=""/>
            <p:cNvPicPr/>
            <p:nvPr/>
          </p:nvPicPr>
          <p:blipFill>
            <a:blip r:embed="rId2"/>
            <a:stretch/>
          </p:blipFill>
          <p:spPr>
            <a:xfrm>
              <a:off x="427320" y="2804760"/>
              <a:ext cx="7886880" cy="2696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C55FF-9F4E-41E7-9F19-C9276231AB76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2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8666B-F4C6-4779-B0D9-5D6209F066EB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1633680" y="1209600"/>
            <a:ext cx="52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Finančni tokovi PO - EK za OP ROPI ES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1"/>
          <p:cNvGrpSpPr/>
          <p:nvPr/>
        </p:nvGrpSpPr>
        <p:grpSpPr>
          <a:xfrm>
            <a:off x="108000" y="2217600"/>
            <a:ext cx="8543880" cy="2724120"/>
            <a:chOff x="108000" y="2217600"/>
            <a:chExt cx="8543880" cy="2724120"/>
          </a:xfrm>
        </p:grpSpPr>
        <p:pic>
          <p:nvPicPr>
            <p:cNvPr id="146" name="Picture 7" descr=""/>
            <p:cNvPicPr/>
            <p:nvPr/>
          </p:nvPicPr>
          <p:blipFill>
            <a:blip r:embed="rId1"/>
            <a:stretch/>
          </p:blipFill>
          <p:spPr>
            <a:xfrm>
              <a:off x="108000" y="2217600"/>
              <a:ext cx="8515440" cy="67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8" descr=""/>
            <p:cNvPicPr/>
            <p:nvPr/>
          </p:nvPicPr>
          <p:blipFill>
            <a:blip r:embed="rId2"/>
            <a:stretch/>
          </p:blipFill>
          <p:spPr>
            <a:xfrm>
              <a:off x="108000" y="2865600"/>
              <a:ext cx="8543880" cy="207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8" name="Text Box 39"/>
          <p:cNvSpPr/>
          <p:nvPr/>
        </p:nvSpPr>
        <p:spPr>
          <a:xfrm>
            <a:off x="411120" y="6321600"/>
            <a:ext cx="47214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Stanje na dan: 30. 4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Evelyn Filip</cp:lastModifiedBy>
  <cp:lastPrinted>2013-06-04T06:50:20Z</cp:lastPrinted>
  <dcterms:modified xsi:type="dcterms:W3CDTF">2014-05-14T14:30:54Z</dcterms:modified>
  <cp:revision>232</cp:revision>
  <dc:subject/>
  <dc:title>Naslov</dc:title>
</cp:coreProperties>
</file>